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3D83-E4CB-4E38-9E32-51F1745F7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CF00-97DD-4B42-A3F6-A4D203CF6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649F-5296-4574-A0DF-3DDFDF1F8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7C28-0896-44E8-BA35-2DCEFEE7E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225A-2AAA-4C27-ADAA-81E6AD32C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F4A9-5CB0-447E-9A05-244F16D55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8F4E-E509-468D-9873-17056339C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3F16-5486-485E-917B-639AD9F05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489F-E768-4211-A190-36B606A51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6738-04C0-4385-89E6-2BADB8A51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BA7C-8192-4158-88A5-0FCDFD75B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A4D9-AC25-442B-AC34-9D27EBFFC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122C-2360-4169-9653-CF9E6852A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91B-A699-4C4A-9342-D65A4F66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210-BD23-4D46-B35B-7B333309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B1F-86F0-4ABD-8221-0F62E6ED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EA7-30F1-4020-8299-26EAE736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F0FC-8296-4273-A597-A9400702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1026-1C7F-4904-A363-09AB5823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17B5-6964-4481-9C61-140B61A6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32E5-69C8-4AC5-B270-BC0A1E43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80D9-0E6D-4A39-A1EE-2927C583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6673-CDDA-4BC5-8CAF-4129F7EF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E3FC-9B70-40CE-A5B8-78C7F864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86E-EED2-45AB-8E9E-58F1BF2A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AD76-FF65-4B23-91FE-7DA24452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1750-9EF3-4853-A308-9778131C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98F1-9438-4007-AB18-056FDEEC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BDC9-339E-49FE-B069-4024D7B4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1EF5-2BAC-4F64-944C-536638C1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87D-9234-4E57-9447-6470AB77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FBA-8CE9-4430-8C7E-7EAB1495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68A-DEEA-465E-BCC9-5637C083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D6F-922F-49DA-A191-4C3A4523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B99-6445-496C-AEB6-FF81FBF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D44-3FF7-4A34-8E64-68438C65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9AB-D3CF-4430-A7A7-9F892DD5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9F48-B35C-4AC1-93A2-23571E8C0B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DBE5-53AF-42D8-864E-AE523D8BA2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7art-screensavers.com/screenshots/wild-animals/deer.jpg&amp;imgrefurl=http://www.7art-screensavers.com/wa.shtml&amp;h=600&amp;w=800&amp;sz=122&amp;tbnid=4adgBM_G3r8J:&amp;tbnh=106&amp;tbnw=141&amp;start=2&amp;prev=/images%3Fq%3Danimals%26hl%3Den%26lr%3D%26sa%3D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Biological Productivity and Energy Flow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nough Food be Produced for Africa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can we grow??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be our Carry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ergy efficien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efficient are orgs at using energ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ver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le of thumb 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5" descr="heatflowimage"/>
          <p:cNvPicPr/>
          <p:nvPr/>
        </p:nvPicPr>
        <p:blipFill>
          <a:blip r:embed="rId1"/>
          <a:stretch/>
        </p:blipFill>
        <p:spPr>
          <a:xfrm>
            <a:off x="685800" y="304920"/>
            <a:ext cx="70866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Picture 5" descr="trophic_levels_individuals"/>
          <p:cNvPicPr/>
          <p:nvPr/>
        </p:nvPicPr>
        <p:blipFill>
          <a:blip r:embed="rId1"/>
          <a:stretch/>
        </p:blipFill>
        <p:spPr>
          <a:xfrm>
            <a:off x="304920" y="228600"/>
            <a:ext cx="4419360" cy="6248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Figure 1.4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4648320" y="6019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 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228240"/>
            <a:ext cx="62485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t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t of organic matter in an ecosystem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ncreases though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Towering Redwood Tree"/>
          <p:cNvPicPr/>
          <p:nvPr/>
        </p:nvPicPr>
        <p:blipFill>
          <a:blip r:embed="rId1"/>
          <a:stretch/>
        </p:blipFill>
        <p:spPr>
          <a:xfrm>
            <a:off x="5972040" y="1719360"/>
            <a:ext cx="2333880" cy="212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de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72240" y="4392720"/>
            <a:ext cx="2685960" cy="2019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Dead Coyote"/>
          <p:cNvPicPr/>
          <p:nvPr/>
        </p:nvPicPr>
        <p:blipFill>
          <a:blip r:embed="rId4"/>
          <a:stretch/>
        </p:blipFill>
        <p:spPr>
          <a:xfrm>
            <a:off x="685800" y="3429000"/>
            <a:ext cx="4229280" cy="2895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685800" y="64771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, animals and dead are all bio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omass is measured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ncreases through grow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avalanche%20scar%20spruce%20"/>
          <p:cNvPicPr/>
          <p:nvPr/>
        </p:nvPicPr>
        <p:blipFill>
          <a:blip r:embed="rId1"/>
          <a:stretch/>
        </p:blipFill>
        <p:spPr>
          <a:xfrm>
            <a:off x="4753080" y="1719360"/>
            <a:ext cx="38275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emoautotroph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teria that us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organic compounds (like sulfu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o make their own food and t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Endeavour Hot Vent Photograph"/>
          <p:cNvPicPr/>
          <p:nvPr/>
        </p:nvPicPr>
        <p:blipFill>
          <a:blip r:embed="rId1"/>
          <a:stretch/>
        </p:blipFill>
        <p:spPr>
          <a:xfrm>
            <a:off x="533520" y="380988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bacterial mats near methane seep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5029200" y="5105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ite-ish area is a bacterial m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eding on methane from beneath the ocean flo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143000" y="6491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thermal 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ergy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systems are all open to energy f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in          food chain           heat rele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not used is lost (as heat)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tor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23623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48769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duke4"/>
          <p:cNvPicPr/>
          <p:nvPr/>
        </p:nvPicPr>
        <p:blipFill>
          <a:blip r:embed="rId1"/>
          <a:stretch/>
        </p:blipFill>
        <p:spPr>
          <a:xfrm>
            <a:off x="6019920" y="3505320"/>
            <a:ext cx="2895480" cy="299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catbig1"/>
          <p:cNvPicPr/>
          <p:nvPr/>
        </p:nvPicPr>
        <p:blipFill>
          <a:blip r:embed="rId2"/>
          <a:stretch/>
        </p:blipFill>
        <p:spPr>
          <a:xfrm>
            <a:off x="304920" y="35053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t%20man"/>
          <p:cNvPicPr/>
          <p:nvPr/>
        </p:nvPicPr>
        <p:blipFill>
          <a:blip r:embed="rId3"/>
          <a:stretch/>
        </p:blipFill>
        <p:spPr>
          <a:xfrm>
            <a:off x="3276720" y="342900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180" name="Line 17"/>
          <p:cNvSpPr/>
          <p:nvPr/>
        </p:nvSpPr>
        <p:spPr>
          <a:xfrm flipH="1">
            <a:off x="5257800" y="3200400"/>
            <a:ext cx="763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943600" y="3200400"/>
            <a:ext cx="9907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9"/>
          <p:cNvSpPr/>
          <p:nvPr/>
        </p:nvSpPr>
        <p:spPr>
          <a:xfrm flipH="1">
            <a:off x="2666880" y="3200400"/>
            <a:ext cx="23623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533520" y="4114800"/>
            <a:ext cx="7924680" cy="1676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ine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tential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can move back and forth between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w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ropy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measure of disorder, wasted energy - becomes more random, can be sound or light but is mostly heat, everything always moves towards entro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The laws of thermodynam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1st Law – conservation of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2nd Law- entropy incr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energy moves to a less organized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living cells are holding off the forces of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ropy b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hanneling ener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609120"/>
            <a:ext cx="40388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flow i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e w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Picture: Whooping crane foodweb"/>
          <p:cNvPicPr/>
          <p:nvPr/>
        </p:nvPicPr>
        <p:blipFill>
          <a:blip r:embed="rId1"/>
          <a:stretch/>
        </p:blipFill>
        <p:spPr>
          <a:xfrm>
            <a:off x="3124080" y="762120"/>
            <a:ext cx="6019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4:15:28Z</dcterms:created>
  <dc:creator>tosborne</dc:creator>
  <dc:description/>
  <dc:language>en-US</dc:language>
  <cp:lastModifiedBy>Teri Osborne</cp:lastModifiedBy>
  <dcterms:modified xsi:type="dcterms:W3CDTF">2010-08-26T22:49:52Z</dcterms:modified>
  <cp:revision>19</cp:revision>
  <dc:subject/>
  <dc:title>Chapter 8 Biological Productivity and Energy Flow</dc:title>
</cp:coreProperties>
</file>